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image6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8.jpeg" ContentType="image/jpeg"/>
  <Override PartName="/ppt/media/image24.jpeg" ContentType="image/jpeg"/>
  <Override PartName="/ppt/media/image23.jpeg" ContentType="image/jpeg"/>
  <Override PartName="/ppt/media/image18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17.png" ContentType="image/png"/>
  <Override PartName="/ppt/media/image2.png" ContentType="image/png"/>
  <Override PartName="/ppt/media/image25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13165-B3F6-4DEE-B4A4-A4D152CE76A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8790F-5C0C-4D0A-BC60-E448228F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1808D-2724-4809-B955-37DE71DD9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762A5-0C22-4A55-BEAB-F0D25CBE440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9A434-10AC-4C14-8AC9-34F12B63C8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62B788-685F-43E6-9352-72E9561DA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AB309-D9F7-4BF6-9C4E-A5965803B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08FD09-966A-475A-BBEB-A1D0317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E60C6E-EFE6-4D97-B572-C32F13AE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4D2C79-F70E-4342-A7F4-5E07CCFC7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54D208-6C02-49FC-9A63-052ED8DCF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506D7-7F04-493E-8C70-5CBC306AC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E428D-F8B9-4CCB-88FC-22494B911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12293-5C63-4E28-BE1C-BC43F116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0B3DE-3EA3-4B23-9F05-6EC9D5C8E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887FD-25CF-44B9-8917-3227EA5C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67797A-9193-49FD-B432-2985467C71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18DF-92F7-4121-A9C1-DC0BE1317AA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D0890-E017-4DBE-B8FE-962347B2B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770A-41C2-487F-A156-51AF8D0E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97A0-E9CC-4988-B3A9-C99778129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9CAE-9C4E-424B-81DA-AB23FEDA1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10470-9860-48E3-90EB-B039ACEF4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5BA2-A96B-4C25-BF57-726D82E90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5433-D623-4D50-959C-9AA33724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30DD6-B5AF-458C-8DD1-A05FD769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72E47-3C4A-41E3-A8E9-945DE9850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6B37-88FB-421C-BE57-D1417F631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953CB-426D-4938-9C07-51357DE1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09228-68A4-42F4-902D-40B4D6C0A5F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7AE1C-B90A-4541-A2F8-A765299BD07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29E9C5-EF3C-4910-8AA0-5817A366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2C0DF0-8770-4EA1-8A26-4AA15BD6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7480A-FE1C-466D-86A9-567DB9CF8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D93805-BB6F-447A-8E61-E286167D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25934A-F3CA-4CE4-A6DA-6A8D4468C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C79C7E-532B-4249-A561-63432FE2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9E178-71E9-43BC-ABA3-6251E4FF7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5690FD-4D53-427F-ABC9-8BAD886D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313CA3-8EDA-4E15-AD32-04468745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58F6B-4B71-4CC4-BA04-2CCA3C95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1326AA-40F5-4491-BAF2-E39EEBCD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93D432-3851-437A-B190-2BE79FF19E3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009D5DD-583F-472C-9919-AF42284222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CF5E-305D-4B84-BFA6-507C399D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539254C-D095-4E40-918B-8903096A8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2D609B-0752-46DC-AF41-8851FA078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1E6FBC-025C-4336-A4F0-38A8C7C0C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C3614-474C-470A-A6E2-D9BAB79D9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548788-4574-48BF-A2D5-D65BB6541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9541BC-51B8-4651-ACF1-E934A6C5B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A0BEAB-2C64-4F4B-BB3F-126B576A9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A8500BB-0874-4003-A26F-B887BBD7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D5B3B7-80E4-4CA4-B0A7-B6260934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43ADED-C646-47DD-9F5F-73756A7E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3882F-85F3-4B9C-90EA-BCDDE4F56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282AA1-82DE-43D0-8FF2-CD7C51E79C5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22F209-4917-434F-B4FB-104E95E89D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0F92F-60D6-4633-88FB-58A5C694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1B75C-FED7-4E96-B6B7-F0A3B11BC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8966B-4E1C-463F-811F-2C0C2C6DF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40A6B-555D-43F0-9D7D-CE4DACC4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6EA12F-2A2F-4D0D-810A-51F34C9E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306FB-4C34-49BC-BFDD-3B76E3E25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61A99B-3B16-493D-B3EB-45443B6B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34A517-C502-4D38-A252-5E72C95E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B09F3-1E91-4598-A1EE-B8F38EEF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D4A1-30DC-4718-8803-49F9E6B8A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89EF-2BE8-474A-9221-DCE3BA79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B3A4A-FC63-491E-AA51-0989900B7CA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EB2AB2-BE07-433A-BE64-401C7BC9E49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D0D551-716D-43E4-BEC1-BD664B4B3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3CBABF-2099-4608-B731-A8EDE3A38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7BD3D2-5A89-4C26-B42A-3F1974D3C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320D0AF-93C3-4E4E-8B00-BE707A7E2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CB69A-65AE-4877-8BF7-AF0707A5D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5C8A82-549B-49C5-A591-8184CB1D0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C0B1BF-1E4C-4A5F-9042-135CF976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710B15-8E6F-4C65-98DA-66FCF7A82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135C1-F7D0-4700-B2E2-0A78FC50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217B51-649E-4A5D-8BC8-816876141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454969-6535-492A-8EB5-BD6202AEF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E7C8B6-BB17-4991-86E7-86E0F895A66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952B470-5454-4C89-83EE-EB6682422F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035F88-3426-48B1-921C-32839C2D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93A021-DB8E-4171-8BE3-AD6A5F0F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8D890B-6AAD-42F7-8588-F8834410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64A9E2-C46E-44D8-99B3-658198E8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8DA4D-78A1-4489-B8F7-7BF04492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352D5C-A18C-48B1-95A5-8C774C11A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1D725F-3D7C-40B0-8147-C4A1F9AB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E83305-5982-4816-B4D9-4899423A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BAC30D7-60FE-4BC7-B105-590B34988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444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6CD71CB-FBC0-4127-9954-0FE28B698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520" y="14810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3520" y="384444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6060BEF-9531-4E5C-98BD-2EE0A5A3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28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1360" y="14810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28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1360" y="384444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4F47EDA-2273-4BDF-9666-B76F6732B1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B323670-8CAD-437A-87B3-61BDCC4296EC}" type="slidenum"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4664160"/>
            <a:ext cx="9150480" cy="144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080" bIns="-46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-3240" y="4952880"/>
            <a:ext cx="9145800" cy="1909800"/>
            <a:chOff x="-3240" y="4952880"/>
            <a:chExt cx="9145800" cy="1909800"/>
          </a:xfrm>
        </p:grpSpPr>
        <p:sp>
          <p:nvSpPr>
            <p:cNvPr id="49" name=""/>
            <p:cNvSpPr/>
            <p:nvPr/>
          </p:nvSpPr>
          <p:spPr>
            <a:xfrm>
              <a:off x="1693800" y="4952880"/>
              <a:ext cx="7442280" cy="487440"/>
            </a:xfrm>
            <a:custGeom>
              <a:avLst/>
              <a:gdLst>
                <a:gd name="textAreaLeft" fmla="*/ 0 w 7442280"/>
                <a:gd name="textAreaRight" fmla="*/ 7442640 w 7442280"/>
                <a:gd name="textAreaTop" fmla="*/ 0 h 487440"/>
                <a:gd name="textAreaBottom" fmla="*/ 487800 h 48744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4280" y="5237280"/>
              <a:ext cx="9091800" cy="787320"/>
            </a:xfrm>
            <a:custGeom>
              <a:avLst/>
              <a:gdLst>
                <a:gd name="textAreaLeft" fmla="*/ 0 w 9091800"/>
                <a:gd name="textAreaRight" fmla="*/ 9092160 w 9091800"/>
                <a:gd name="textAreaTop" fmla="*/ 0 h 787320"/>
                <a:gd name="textAreaBottom" fmla="*/ 787680 h 78732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"/>
            <p:cNvGrpSpPr/>
            <p:nvPr/>
          </p:nvGrpSpPr>
          <p:grpSpPr>
            <a:xfrm>
              <a:off x="7920" y="4998960"/>
              <a:ext cx="9128160" cy="1863720"/>
              <a:chOff x="7920" y="4998960"/>
              <a:chExt cx="9128160" cy="1863720"/>
            </a:xfrm>
          </p:grpSpPr>
          <p:pic>
            <p:nvPicPr>
              <p:cNvPr id="5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20" y="4998960"/>
                <a:ext cx="9128160" cy="186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792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-3240" y="4992840"/>
              <a:ext cx="9145800" cy="803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15FD688-A187-4F66-91E9-B456D6021498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99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E4FE80-EF01-4DBD-942F-F2B68043A5FF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148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8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6F4074-E022-4FA7-9057-1C8EA7EFFC6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9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sldNum" idx="10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652D3B-C903-40F6-9E88-C483332D6999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1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069FF9B-6092-4E98-B0DA-053B777718E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3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sldNum" idx="14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DC64FDF-54E0-4B53-BA18-36B2CE2C3773}" type="slidenum">
              <a:rPr b="0" lang="ru-RU" sz="10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-6480" y="5791320"/>
            <a:ext cx="3400560" cy="1077840"/>
            <a:chOff x="-6480" y="5791320"/>
            <a:chExt cx="3400560" cy="1077840"/>
          </a:xfrm>
        </p:grpSpPr>
        <p:pic>
          <p:nvPicPr>
            <p:cNvPr id="324" name="" descr=""/>
            <p:cNvPicPr/>
            <p:nvPr/>
          </p:nvPicPr>
          <p:blipFill>
            <a:blip r:embed="rId3"/>
            <a:stretch/>
          </p:blipFill>
          <p:spPr>
            <a:xfrm>
              <a:off x="-6480" y="5791320"/>
              <a:ext cx="3400560" cy="107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69848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" descr=""/>
          <p:cNvPicPr/>
          <p:nvPr/>
        </p:nvPicPr>
        <p:blipFill>
          <a:blip r:embed="rId4"/>
          <a:stretch/>
        </p:blipFill>
        <p:spPr>
          <a:xfrm>
            <a:off x="-19080" y="5778360"/>
            <a:ext cx="3421080" cy="1098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15"/>
          </p:nvPr>
        </p:nvSpPr>
        <p:spPr>
          <a:xfrm>
            <a:off x="6727320" y="6408720"/>
            <a:ext cx="191772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16"/>
          </p:nvPr>
        </p:nvSpPr>
        <p:spPr>
          <a:xfrm>
            <a:off x="8647200" y="6408720"/>
            <a:ext cx="3650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9CA406-ED62-4D31-AD91-D268F67F615A}" type="slidenum">
              <a:rPr b="0" lang="ru-RU" sz="10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77724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1481040"/>
            <a:ext cx="4114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Вопросы для обсуждения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1. Обсуждали вы в своей семье вопрос будущей профессии вашего ребенка?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 Едины ли вы во взглядах на его будущую профессию со своей женой/мужем?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3. Считаете ли вы необходимым учитывать интерес самого ребенка при выборе его будущего?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4. Кем вы его видите в будущем?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5. Будет ли он продолжать дальнейшее обучение в школе или будет получать профессию?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5148360" y="1125360"/>
            <a:ext cx="3325680" cy="554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457200" y="1481040"/>
            <a:ext cx="814716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Примерно 40% молодежи из-за незнания правил выбора профессии, отсутствия опыта в профессиональной деятельности выбирают профессию, не соответствующую их склонностям и интересам. 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6248520" cy="336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2889360" y="3141720"/>
            <a:ext cx="5927760" cy="331164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3"/>
          <a:stretch/>
        </p:blipFill>
        <p:spPr>
          <a:xfrm>
            <a:off x="468360" y="1341360"/>
            <a:ext cx="4762440" cy="238140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4"/>
          <a:stretch/>
        </p:blipFill>
        <p:spPr>
          <a:xfrm>
            <a:off x="826920" y="4005360"/>
            <a:ext cx="2486160" cy="183816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5"/>
          <a:stretch/>
        </p:blipFill>
        <p:spPr>
          <a:xfrm>
            <a:off x="6372360" y="1379520"/>
            <a:ext cx="151272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457200" y="1481040"/>
            <a:ext cx="8291520" cy="40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1. Л о г и с т и к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занимается логикой; б) организует транспортировку продукции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организует конференции и научные саммиты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2. В е б - м а с т е р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работает на компьютере; б) разрабатывает программы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работает с сетями, разрабатывает проекты сайтов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3. М а р к е т о л о г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работает на рынке ценных бумаг; б) изучает рынок труда;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в) изучает рынок сбыта товара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4. P R - а г е н т: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Lucida Sans Unicode"/>
              </a:rPr>
              <a:t>а) связан с политикой; б) специалист по рекламе и связям с общественностью; в) выполняет посреднические услуги между организациями и людьми.</a:t>
            </a:r>
            <a:endParaRPr b="0" lang="en-US" sz="1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2"/>
          <a:stretch/>
        </p:blipFill>
        <p:spPr>
          <a:xfrm>
            <a:off x="-6480" y="5300640"/>
            <a:ext cx="676908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457200" y="1481040"/>
            <a:ext cx="447516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· Родители настаивают на выборе той профессии, которой в силу обстоятельств им не удалось овладеть самим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· Родители настаивают на выборе профессии, которая базируется на их поверхностных и неточных представлениях о престижных профессиях, якобы гарантирующих ребенку безоблачное будущее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· Очень часто родительские советы подаются под «соусом» «полезно для семейной жизни». Будь врачом – нас и себя сможешь лечить! Становись поваром, хоть готовить научишься! Плохо ли – воспитатель! Своих детей вырастишь как надо…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>
            <a:off x="5357880" y="1557360"/>
            <a:ext cx="3525840" cy="27352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3"/>
          <a:stretch/>
        </p:blipFill>
        <p:spPr>
          <a:xfrm>
            <a:off x="5940360" y="4713120"/>
            <a:ext cx="1944720" cy="195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457200" y="1481040"/>
            <a:ext cx="447516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Первое на что следует обратить внимание – это состояние здоровья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Выбирая профессию, непременно следует учитывать интересы, склонности и способности вашего ребёнка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Lucida Sans Unicode"/>
              </a:rPr>
              <a:t>Считается, что профессиональный выбор будет более обоснованным, если в его основе лежит интерес к содержанию профессии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4119480" cy="2314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4948200" y="4025880"/>
            <a:ext cx="2503440" cy="250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57200" y="1481040"/>
            <a:ext cx="4475160" cy="44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1) несоразмеримые с возможностями запросы следует не осуждать или запрещать, а позволить ему столкнуться с реальностью, т.к. неудача автоматически снижает уровень притязаний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2) всегда помнить, что их завышенный уровень – замечательный стимул для усвоения новых знаний, умений, навыков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  <a:p>
            <a:pPr marL="36360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Lucida Sans Unicode"/>
              </a:rPr>
              <a:t>3) поощрять усвоение ребенком таких видов деятельности, которые необходимы для удовлетворения его конкретных запросов, а также стиль поведения, обеспечивающий в этом успех.</a:t>
            </a:r>
            <a:endParaRPr b="0" lang="en-US" sz="1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62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2"/>
          <a:stretch/>
        </p:blipFill>
        <p:spPr>
          <a:xfrm>
            <a:off x="4932360" y="1700280"/>
            <a:ext cx="3981600" cy="416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2"/>
          <a:stretch/>
        </p:blipFill>
        <p:spPr>
          <a:xfrm>
            <a:off x="725400" y="1060560"/>
            <a:ext cx="7778880" cy="18288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922560" y="2932200"/>
            <a:ext cx="4572000" cy="14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547560"/>
                <a:tab algn="l" pos="1461960"/>
                <a:tab algn="l" pos="2376360"/>
                <a:tab algn="l" pos="3290760"/>
                <a:tab algn="l" pos="4205160"/>
                <a:tab algn="l" pos="5119560"/>
                <a:tab algn="l" pos="6033960"/>
                <a:tab algn="l" pos="6948360"/>
                <a:tab algn="l" pos="7862760"/>
                <a:tab algn="l" pos="8777160"/>
                <a:tab algn="l" pos="9691560"/>
                <a:tab algn="l" pos="9883800"/>
                <a:tab algn="l" pos="10333080"/>
                <a:tab algn="l" pos="1078236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Lucida Sans Unicode"/>
              </a:rPr>
              <a:t>Томас Карлейл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3"/>
          <a:stretch/>
        </p:blipFill>
        <p:spPr>
          <a:xfrm>
            <a:off x="3132000" y="3573360"/>
            <a:ext cx="3954600" cy="27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25T20:15:31Z</dcterms:created>
  <dc:creator>Arina</dc:creator>
  <dc:description/>
  <dc:language>en-US</dc:language>
  <cp:lastModifiedBy>СЗ Мвидео</cp:lastModifiedBy>
  <dcterms:modified xsi:type="dcterms:W3CDTF">2018-01-26T01:31:47Z</dcterms:modified>
  <cp:revision>3</cp:revision>
  <dc:subject/>
  <dc:title>КАК ПОМОЧЬ РЕБЕНКУ ВЫБРАТЬ ПРОФЕССИЮ</dc:title>
</cp:coreProperties>
</file>