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D09E-1411-4009-BE4E-5B7B87B38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0DA8-4383-439E-B8D7-1BD14E0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7088-C4A4-410D-8D3F-9544B57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F520-0D97-4F7B-B4CC-95DA6B420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6BBC-C4D7-4A81-A5A9-95C1DE9D9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8290B-A17E-414C-88AB-4EF82B0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C386C-BE0D-4961-B68B-CCE6325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75F79-CECF-4ECD-AA29-8838220E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B4CCA-C3C9-4484-8C2D-0CE4FFEA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578952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220B1-485E-4C8B-B4C5-AD0BB481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332DA-9EDD-46E9-BC8E-AFB637CE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7A3F-134E-4824-A2E4-D34747D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9EFE2-F298-42E4-9531-0C9BC59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35C7-621D-45BA-A46A-7EA0A55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9D8D8-EF67-4060-8A09-5B7AC99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EEF4C-1642-4499-BA25-37BF53D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0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844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0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844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D8CA-B553-424F-8A59-DA90258AD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EED9-CB12-4184-9947-DAF3AAA01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51BE-F52A-4A9C-B934-DDE9925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7A0-D738-4059-9C01-DE374538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F80-1DEF-4253-8C6A-3CE1EE80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70A2-933E-43D8-A7BF-E0045B4E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6C17-ACF4-46EE-8F26-90AB2F6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578952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4E4-EB0A-43DD-B4BE-29C698A3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C5F7-FAF9-4B78-BD0D-5138115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DB2-13FE-4091-8D0B-DFECD929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4A31-E0B3-4A2B-AD5E-59937FFD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70DC-E28F-4054-82DD-49851CE3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5F02-9E7F-4F13-8995-B2149F1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0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844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0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844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D74B-76B5-40AA-A1BD-28E660AA5B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C514-2C97-45F5-AAEF-DE9769A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D7DF-8162-4A55-BE20-FD46EC0F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578952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B3C9-C60D-410D-AB41-305EA226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EB1E-EBB6-46E5-990D-64FAF435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C1CD-71F1-4D1A-9725-0804B173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0B42-F13E-44D1-ABBC-1E6128EE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3427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92960"/>
            <a:ext cx="342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2280" y="6726240"/>
            <a:ext cx="1314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B1950A-49EE-4DC5-BFEF-B6F00F0F833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172200"/>
            <a:ext cx="3427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492960"/>
            <a:ext cx="342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702280" y="6726240"/>
            <a:ext cx="1314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97771FA-F309-49D9-AE54-F9EFFE968FA0}" type="slidenum"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895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172200"/>
            <a:ext cx="3427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492960"/>
            <a:ext cx="342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702280" y="6726240"/>
            <a:ext cx="1314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CC02DBB-2BB3-4BC1-B1E1-22371D20743C}" type="slidenum"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«КАК ПРЕВРАТИТЬ МЕЧТУ В ЦЕЛЬ?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СИЛОВОЕ ПОЛЕ ВЫБОРА 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08440" y="2700360"/>
            <a:ext cx="3181320" cy="1670040"/>
          </a:xfrm>
          <a:prstGeom prst="rect">
            <a:avLst/>
          </a:prstGeom>
          <a:ln w="0">
            <a:noFill/>
          </a:ln>
        </p:spPr>
      </p:pic>
      <p:cxnSp>
        <p:nvCxnSpPr>
          <p:cNvPr id="151" name=""/>
          <p:cNvCxnSpPr/>
          <p:nvPr/>
        </p:nvCxnSpPr>
        <p:spPr>
          <a:xfrm>
            <a:off x="1763640" y="2637000"/>
            <a:ext cx="1154880" cy="57636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"/>
          <p:cNvCxnSpPr/>
          <p:nvPr/>
        </p:nvCxnSpPr>
        <p:spPr>
          <a:xfrm>
            <a:off x="4355640" y="1916280"/>
            <a:ext cx="73800" cy="72144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"/>
          <p:cNvCxnSpPr/>
          <p:nvPr/>
        </p:nvCxnSpPr>
        <p:spPr>
          <a:xfrm flipH="1">
            <a:off x="5939640" y="2421000"/>
            <a:ext cx="1080360" cy="50400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"/>
          <p:cNvCxnSpPr/>
          <p:nvPr/>
        </p:nvCxnSpPr>
        <p:spPr>
          <a:xfrm flipV="1">
            <a:off x="1835280" y="4365000"/>
            <a:ext cx="1297440" cy="71964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"/>
          <p:cNvCxnSpPr/>
          <p:nvPr/>
        </p:nvCxnSpPr>
        <p:spPr>
          <a:xfrm flipV="1">
            <a:off x="4642920" y="4723920"/>
            <a:ext cx="2520" cy="72144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"/>
          <p:cNvCxnSpPr/>
          <p:nvPr/>
        </p:nvCxnSpPr>
        <p:spPr>
          <a:xfrm flipH="1" flipV="1">
            <a:off x="5939640" y="4365000"/>
            <a:ext cx="1369080" cy="864360"/>
          </a:xfrm>
          <a:prstGeom prst="straightConnector1">
            <a:avLst/>
          </a:prstGeom>
          <a:ln cap="sq" w="414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"/>
          <p:cNvSpPr/>
          <p:nvPr/>
        </p:nvSpPr>
        <p:spPr>
          <a:xfrm>
            <a:off x="933480" y="22766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0200" y="15476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35840" y="20923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7640" y="50450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77880" y="55818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360" y="53672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22320" y="-12600"/>
            <a:ext cx="3703680" cy="2779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8000" y="2786040"/>
            <a:ext cx="8891640" cy="4073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26000" y="-12600"/>
            <a:ext cx="373212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477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7068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ПРОФЕССИЯ НА БУКВУ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19144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16360" y="3435480"/>
            <a:ext cx="393228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САМАЯ-САМ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460836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ЗВЁЗДНЫЙ ЧА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85016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33336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ПРОФЕССИЯ И ТРЕБУЕМЫЕ КАЧЕ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143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ДОРОЖНАЯ КАР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9362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ЗАБОРЫ И ОВРА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2168640"/>
            <a:ext cx="800748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РЕЙТИНГ ОШИБ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158920" cy="14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2065320"/>
            <a:ext cx="6769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13:02Z</dcterms:created>
  <dc:creator>Arina</dc:creator>
  <dc:description/>
  <dc:language>en-US</dc:language>
  <cp:lastModifiedBy>USER</cp:lastModifiedBy>
  <dcterms:modified xsi:type="dcterms:W3CDTF">2018-02-26T10:17:28Z</dcterms:modified>
  <cp:revision>5</cp:revision>
  <dc:subject/>
  <dc:title>«Как превратить мечту в цель?»</dc:title>
</cp:coreProperties>
</file>